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3a7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b3a7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59FA-8F28-47B7-9E65-DBD73DC8F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Figure 10.3 (formerly 8.3 in 9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Figure 10.4 (formerly 8.4 in 9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10.1 (formerly 8.1 in 9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Figure 10.2 (formerly 8.2 in 9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B5AB-D9CF-4021-8490-43FDECDA6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C099-B0F8-4B8B-B29E-5695CC3E5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4A6D-79BC-4FDA-8245-7085D059A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3CFB-B4B2-48A9-B481-B7E1D91F5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F88D-A6AC-4CDF-B5AD-853970F80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60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60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516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944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516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944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3BE8-CC40-4526-9880-58B9AC54D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4D48-6C54-4F43-9695-91AC4E966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0FF3-1064-4E13-96E8-B70E27758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0E51-6E37-4FC9-B15B-ED76E70B8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BA1F-4281-4191-9538-AFB631B7E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F02D2-07E8-4E1E-AAFB-FA9B04191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85CE-5104-4D19-B712-8452857C6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b3a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8620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Houghton Mifflin Compan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86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| </a:t>
            </a:r>
            <a:fld id="{A0F8E1B7-5F6C-44F9-89BD-3B5A6D49CD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1640" y="129492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3a7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b3a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3a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b3a7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3a7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3a7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1640" y="1583280"/>
            <a:ext cx="4343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3a71"/>
                </a:solidFill>
                <a:latin typeface="Arial"/>
              </a:rPr>
              <a:t>Chapter Ten</a:t>
            </a:r>
            <a:endParaRPr b="0" lang="en-US" sz="3600" spc="-1" strike="noStrike">
              <a:solidFill>
                <a:srgbClr val="2b3a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1640" y="289512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3a71"/>
                </a:solidFill>
                <a:latin typeface="Arial"/>
              </a:rPr>
              <a:t>Elections and Campaigns</a:t>
            </a: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27800"/>
            <a:ext cx="8686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ying in Congre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ework, Pork and Loyal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gear their offices to help individual constitu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tee members secure pork for the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must decide to what extent to be delegates ( to do what the district wants) versus trustees ( to use their independent judg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CFA1-7036-4E08-91AC-CE0F2089B3B0}" type="slidenum">
              <a:t>10</a:t>
            </a:fld>
          </a:p>
        </p:txBody>
      </p:sp>
    </p:spTree>
  </p:cSld>
  <p:transition spd="med"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74 Campaign Finance Re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: Watergate and illegal donations from corporation, unions, and individuals catalyze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about the 1974 federal campaign reform law and Federal Election Commission (F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5B0A-3FE6-4C93-8626-012D2F8396C6}" type="slidenum">
              <a:t>11</a:t>
            </a:fld>
          </a:p>
        </p:txBody>
      </p:sp>
    </p:spTree>
  </p:cSld>
  <p:transition spd="med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ising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can give $2,300 (2002 Reform); PACs can give $5,000 in each election to each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must raise $5,000 in twenty states in individual contributions of $250 or less to qualify for federal matching grants to pay for primary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FEE9-DD78-4FDD-86AB-4905180C4EF6}" type="slidenum">
              <a:t>12</a:t>
            </a:fld>
          </a:p>
        </p:txBody>
      </p:sp>
    </p:spTree>
  </p:cSld>
  <p:transition spd="med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with Campaign Fin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 expendi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n organization or PAC can spend as much as it wishes on advertising, so long as it is not coordinated with a candidate’s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 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unlimited amounts of money may be given to a political party, so long as a candidate is not n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8BF2-F9EC-4581-9DE8-DC13479ED4D3}" type="slidenum">
              <a:t>13</a:t>
            </a:fld>
          </a:p>
        </p:txBody>
      </p:sp>
    </p:spTree>
  </p:cSld>
  <p:transition spd="med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partisan Campaign Finance Reform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ned soft money contributions to national parties from corporations and unions after the 2002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he limit on individual donations to $2,300 per candidate per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D2C1-42E1-4037-81FD-81D760E85056}" type="slidenum">
              <a:t>14</a:t>
            </a:fld>
          </a:p>
        </p:txBody>
      </p:sp>
    </p:spTree>
  </p:cSld>
  <p:transition spd="med"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partisan Campaign Finance Reform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ly restricted independent expendi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ions, unions, trade associations, nonprofit organizations cannot use their own money for an advertisement referring to a candidate by name 30 days before a primary and 60 days before a general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6204-2F28-45FE-B9D0-B360CCA2B2AE}" type="slidenum">
              <a:t>15</a:t>
            </a:fld>
          </a:p>
        </p:txBody>
      </p:sp>
    </p:spTree>
  </p:cSld>
  <p:transition spd="med"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27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37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source of money under the Bipartisan Campaign Reform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permit the kind of soft money expenditures once made by political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spend their money on politics so long as they do not coordinate with a candidate or lobby directly for that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163A-2B40-4267-B05D-FB2CD4803156}" type="slidenum">
              <a:t>16</a:t>
            </a:fld>
          </a:p>
        </p:txBody>
      </p:sp>
    </p:spTree>
  </p:cSld>
  <p:transition spd="med"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y and Wi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ial candidates have similar funds because of federal funding (NOT ANYM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peacetime, presidential elections are usually decided on the basis of three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party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4222-CBFC-4A94-9D21-71690B050450}" type="slidenum">
              <a:t>17</a:t>
            </a:fld>
          </a:p>
        </p:txBody>
      </p:sp>
    </p:spTree>
  </p:cSld>
  <p:transition spd="med"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27800"/>
            <a:ext cx="8686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10.3: The Economy and Vote for President, 1948-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87600" y="1447920"/>
            <a:ext cx="4168800" cy="451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143000" y="601992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from Robert S. Erikson and Kent L. Tedi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merican Public Opinion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th ed., p. 271. Copyright © 1995 by Allyn &amp; Bacon/Longman. Reprinted by permission of Pearson Education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0CAA-B895-4B81-BE6A-9E31098E3D0B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ter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O. Key: most voters who switch parties do so in their own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voting is used by relatively few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ospective voting is practiced by most voters, and decides most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AB48-6F7B-4637-BD95-EAC13D9793D5}" type="slidenum">
              <a:t>19</a:t>
            </a:fld>
          </a:p>
        </p:txBody>
      </p:sp>
    </p:spTree>
  </p:cSld>
  <p:transition spd="med"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idential v. Congressional Campa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more voter participation in presidential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ial races are more competitive than House 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B5F7-ED69-4080-A66B-8E4428E2C09C}" type="slidenum">
              <a:t>2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al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tic coalition: African Americans, Jews, Hispanics (not Cub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(?), southerners(YES!) and union members(?) are leaving the Democ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ublican coalition: business and professional people who are very loyal,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993B-774D-481A-9933-B0152FD7D228}" type="slidenum">
              <a:t>20</a:t>
            </a:fld>
          </a:p>
        </p:txBody>
      </p:sp>
    </p:spTree>
  </p:cSld>
  <p:transition spd="med">
    <p:wipe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27800"/>
            <a:ext cx="8686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10.4: Partisan Division of Presidential Vote, 1856-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8534160" cy="424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80880" y="6019920"/>
            <a:ext cx="838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from Historical Data Archive, Inter-University Consortium for Political Research, as reported in William H. Flanigan and Nancy H. Zingale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litical Behavior of the American Electo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3rd ed., 3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362F-8300-4FA4-8262-98AD65DDCBA5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Elections Make a Difference in Polic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merican elections do make differences i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constitutional system generally moderates the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3E21-C655-4CDE-A9B4-15B0D6AF9655}" type="slidenum">
              <a:t>22</a:t>
            </a:fld>
          </a:p>
        </p:txBody>
      </p:sp>
    </p:spTree>
  </p:cSld>
  <p:transition spd="med"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idential v. Congressional Campa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urnout in off years means that candidates must appeal to more motivated and partisan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ss Satisfied Vote, which generally means President’s Party loses s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Congress can do things for their constituents that the president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Congress can distance themselves from the “mess in Washingt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61535-E152-490B-8B24-BD4A98210743}" type="slidenum">
              <a:t>3</a:t>
            </a:fld>
          </a:p>
        </p:txBody>
      </p:sp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ding for Congressional El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oney comes from individual small donors ($100–$200 a per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,300 maximum for individu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,000 limit for PACs, but most give just a few hundred do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rs must supply much of their own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FE2F-91F3-446C-8BAB-246FB7CBE22A}" type="slidenum">
              <a:t>4</a:t>
            </a:fld>
          </a:p>
        </p:txBody>
      </p:sp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10.1: The Cost of Wi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1909800"/>
            <a:ext cx="8686800" cy="3778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533520" y="5791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from Federal Election Commission report, May 15,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F427-70E0-4259-ADE1-A8372E851EC9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10.2: Growth of PA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2001960"/>
            <a:ext cx="8534160" cy="3593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438280" y="57150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Election Commis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B900-B32A-42EC-A69A-CD8DE65CE123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gressional El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mbents have an extraordinary advantage – and no terms limits in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has two senators; number of House representatives based on state population, as determined by the c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members are now elected from single-member distr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A9C20-74E2-4C49-BFCC-0CE38F8E32C1}" type="slidenum">
              <a:t>7</a:t>
            </a:fld>
          </a:p>
        </p:txBody>
      </p:sp>
    </p:spTree>
  </p:cSld>
  <p:transition spd="med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10.2: Sources of Campaign Funds: All House and Senate Candidates in 2001-2002, by Party (in Mill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666800"/>
            <a:ext cx="8229600" cy="4781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3728-DCC1-4B5E-ABAA-D117AA54B6AE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District Bound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apportio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districts have very different populations, so the votes in the less-populated district “weigh more” than those in the more-populated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rymand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boundaries are drawn to favor one party rather than another, resulting in odd-shaped distr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15DC-F5C8-45E3-83DA-E295967236F6}" type="slidenum">
              <a:t>9</a:t>
            </a:fld>
          </a:p>
        </p:txBody>
      </p:sp>
    </p:spTree>
  </p:cSld>
  <p:transition spd="med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5:40:29Z</dcterms:created>
  <dc:creator>Creek Tech Center</dc:creator>
  <dc:description/>
  <dc:language>en-US</dc:language>
  <cp:lastModifiedBy>Darien Public Schools</cp:lastModifiedBy>
  <dcterms:modified xsi:type="dcterms:W3CDTF">2008-03-05T14:38:13Z</dcterms:modified>
  <cp:revision>15</cp:revision>
  <dc:subject/>
  <dc:title>Elections and Campaigns</dc:title>
</cp:coreProperties>
</file>